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13E-64FA-4656-A693-8C169530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BBB-79BF-4A26-A5A6-9230093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47F-56B2-4030-9CC8-B2DA7AFD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13D-11D4-49D3-9DA1-37D5AF07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0F5-82E5-446D-BAC3-67C4D43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AA2-0EF9-453F-8693-3D91044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8A1-E18B-4F33-851E-3D15686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BAF-978B-440B-A64D-48039E08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408-B9F6-45C4-AD29-A89F7D2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C7A-043B-450E-A113-2E700AE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CE4-5EC2-4228-8A13-66D54F01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47F-916F-49E5-870C-98959EF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5B24-763F-4F1F-9F12-4498AB4FA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y Gabe 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门开派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unting.jpg picture by partypooper13"/>
          <p:cNvPicPr/>
          <p:nvPr/>
        </p:nvPicPr>
        <p:blipFill>
          <a:blip r:embed="rId1"/>
          <a:stretch/>
        </p:blipFill>
        <p:spPr>
          <a:xfrm>
            <a:off x="2209680" y="19810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-6858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个老男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chascreek.blogs.com/a_doodle_a_day/images/old_man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9128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-83808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喜欢在山上散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oldasianman.jpg old asian man picture by Pacoiscool"/>
          <p:cNvPicPr/>
          <p:nvPr/>
        </p:nvPicPr>
        <p:blipFill>
          <a:blip r:embed="rId1"/>
          <a:stretch/>
        </p:blipFill>
        <p:spPr>
          <a:xfrm>
            <a:off x="4572000" y="19810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zakopane-life.com/media/pics/tatra-mountains-zakopane.jpg"/>
          <p:cNvPicPr/>
          <p:nvPr/>
        </p:nvPicPr>
        <p:blipFill>
          <a:blip r:embed="rId2"/>
          <a:stretch/>
        </p:blipFill>
        <p:spPr>
          <a:xfrm>
            <a:off x="228600" y="24382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3"/>
          <a:stretch/>
        </p:blipFill>
        <p:spPr>
          <a:xfrm>
            <a:off x="-121932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天他看四个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5334120" y="22096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draw.joshmillard.com/img/what-is-he-looking-at.jpg"/>
          <p:cNvPicPr/>
          <p:nvPr/>
        </p:nvPicPr>
        <p:blipFill>
          <a:blip r:embed="rId2"/>
          <a:stretch/>
        </p:blipFill>
        <p:spPr>
          <a:xfrm>
            <a:off x="457200" y="2209680"/>
            <a:ext cx="3898800" cy="389916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3"/>
          <a:stretch/>
        </p:blipFill>
        <p:spPr>
          <a:xfrm>
            <a:off x="-60948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不认识他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earchengineconsultant.files.wordpress.com/2008/12/confused.jpg"/>
          <p:cNvPicPr/>
          <p:nvPr/>
        </p:nvPicPr>
        <p:blipFill>
          <a:blip r:embed="rId1"/>
          <a:stretch/>
        </p:blipFill>
        <p:spPr>
          <a:xfrm>
            <a:off x="1066680" y="144792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henry.mpls.k12.mn.us/sites/40ffb804-cceb-41db-92d5-ed0b7a6eb987/uploads/SelfMade2.jpg"/>
          <p:cNvPicPr/>
          <p:nvPr/>
        </p:nvPicPr>
        <p:blipFill>
          <a:blip r:embed="rId2"/>
          <a:stretch/>
        </p:blipFill>
        <p:spPr>
          <a:xfrm>
            <a:off x="4876920" y="19810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-9907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你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ghostofbenjaminholt.com/uploaded_images/Old%20Man-763063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8152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129528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什么都没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不喜欢老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3164040" y="2646360"/>
            <a:ext cx="3084480" cy="3803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-11430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跑到他房子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acclesfield-harriers.co.uk/mh/photo/fraRelays2005/Old%20man%20of%20the%20hills.jpg"/>
          <p:cNvPicPr/>
          <p:nvPr/>
        </p:nvPicPr>
        <p:blipFill>
          <a:blip r:embed="rId1"/>
          <a:stretch/>
        </p:blipFill>
        <p:spPr>
          <a:xfrm>
            <a:off x="472428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geocities.com/carmelacolavecchio/mountain_houseJPG.jpg"/>
          <p:cNvPicPr/>
          <p:nvPr/>
        </p:nvPicPr>
        <p:blipFill>
          <a:blip r:embed="rId2"/>
          <a:stretch/>
        </p:blipFill>
        <p:spPr>
          <a:xfrm>
            <a:off x="304920" y="3429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-1371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老男人有两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38.jpg"/>
          <p:cNvPicPr/>
          <p:nvPr/>
        </p:nvPicPr>
        <p:blipFill>
          <a:blip r:embed="rId1"/>
          <a:stretch/>
        </p:blipFill>
        <p:spPr>
          <a:xfrm>
            <a:off x="1600200" y="1828800"/>
            <a:ext cx="5969160" cy="39751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-12193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8:15Z</dcterms:created>
  <dc:creator>itsuser</dc:creator>
  <dc:description/>
  <dc:language>en-US</dc:language>
  <cp:lastModifiedBy>itsuser</cp:lastModifiedBy>
  <dcterms:modified xsi:type="dcterms:W3CDTF">2009-03-05T17:01:36Z</dcterms:modified>
  <cp:revision>7</cp:revision>
  <dc:subject/>
  <dc:title>老男人  By Gabe Ward</dc:title>
</cp:coreProperties>
</file>